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80A6-A26C-4C93-B13C-3841E71C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B21F-D93D-4FC1-B8D8-A8D3F094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2E36-CE25-4D1C-A59B-BFA12DFA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0B9-819A-4007-8E4B-79E7BDCB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B85C-3AF3-49E9-8DBC-3444278F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B76A-C73C-4714-9754-6921552B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FAE5-8F8C-48F9-8FBF-EB79165C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80BB-06A5-46A9-9F8C-C51B261D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62A2-C127-4CE0-A8AA-5732EF09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AB8E-BFCA-4544-8553-1DAE287C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26F3-E4D1-440E-9511-CB3BBAE1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FFB1-9E93-471A-9BB5-EDA5DD07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A918-1537-4781-BB03-5A1ED5D4D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2 Analyzing Hate C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391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uses h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n angry outburst, a person often feels sorry for his or her words or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tred may be directed at whole classes of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dom repentance for acts of hatred because a person really aims to negate the object of his or her intense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our Characteristics of Hate C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e hatred is intense and im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t the same as strong anger directed at an individual whom there was a previous conflict or rival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atred is not directed at any one person in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our Characteristics of Hate C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e hatred is intense and im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Belfast mob didn’t know anything about the school girls except their reli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rk Lepine ordered all of the men out of the room before he turned his gun on the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our Characteristics of Hate C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e hatred is intense and im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ames Byrd was dragged to death because of his skin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tt Sheppard met his killers at a bar bc they were looking for a homosex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lumbine shooters were shooting at jocks and people wearing sports h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our Characteristics of Hate C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e hatred is intense and im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9/11 the hijackers were intent on killing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our Characteristics of Hate C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e hatred is based on prejudice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perpetrator has power of authority or a physical advantage over the intended victims or victi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elfast- crowd of youths and adult men used rocks and bottles against women and little gir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our Characteristics of Hate C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2.  The hatred is based on prejudice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rk Lepine used surprise in Montreal by bursting into a school heavily a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ree men forcibly tied a black hitchhiker to a truck bum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our Characteristics of Hate C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2.  The hatred is based on prejudice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wo men intent on ‘gay bashing” picked up one victim smaller in stature than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lumbine used an arsenal of pipebombs and guns to terrorize several hundred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our Characteristics of Hate C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e hatred is based on prejudice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ijackers relied on knives and bold surprise to fly commercial airliners  into selected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perpetrators in all these cases acted from positions of power to last out at the objects of their hat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our Characteristics of Hate C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e hatred is directed at scapegoats for other frust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ustrations and the difficulties in life may be found at the center of intense hatred toward out-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out-groups selected as targets for this displaced frustration and hostility are called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capeg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ioting In Belfast Northern Ireland [www.keepvid.com].mp4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our Characteristics of Hate C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3. The hatred is directed at scapegoats for other frust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r example:  in the late 19</a:t>
            </a:r>
            <a:r>
              <a:rPr b="0" lang="en-CA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century hundreds of blacks were hanged each year  in the southern US often as a part of the cross burning rituals organized by the K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our Characteristics of Hate C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3.  The hatred is directed at scapegoats for other frust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ducted by poor white farmers, one rung above the victim on the social ladder, for no reason other than to “keep the blacks in their pla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perpetrator of the 1989 Montreal Massacre left a suicide note claiming that he killed the female engineering students because they were feminists/ in their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our Characteristics of Hate C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Genocide is an expression of national hat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greatest excesses of hatred directed against minority scapegoats are those that have been carried out by order as national poli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itler wrote a book called “My Strugg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our Characteristics of Hate C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4. Genocide is an expression of national hat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e blamed the Jews for failures of his own life and for the problems of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Holocaust is the worst case of racial-cultural genocide the world has known in terms of the # of lives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our Characteristics of Hate C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4. Genocide is an expression of national hat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1994 Rwanda, savagely murdered 800 000  minority people and any sympathis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Hate Crimes and International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fter WWII the international community agreed that such events as the Holocaust must never happen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1948 the United Nations declared its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Universal Declaration of Human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s was the first international statement outlining the rights and freedoms of people glob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Hate Crimes and International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t states that every person has the right to life, freedom and secu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 one must be treated in a cruel, degrading or inhumane wa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ational Criminal Court was set up to investigate and prosecute individuals guilty of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ar cr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Hate Crimes and International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imes against humanity and genoc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se are the most extreme crimes of hatred and are defined as fo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ar Crimes-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urder, torture, and hostage taking of civilian nationals, and/or wide scale destruction of their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Hate Crimes and International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rimes Against Humanity-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murder, torture, enslavement and deportation of innocent civilian natio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Genocide-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deliberate mass murder of any national, ethnic, racial or religio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uses H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 female engineering students gunned down  at Ecole Polytechnique in 19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CBC News Footage - December 6th 1989 Ecole Polytechnique [www.keepvid.com].mp4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uses h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Texans dragged a black man to his death behind their pickup truck in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The Untold Life Story of James Byrd Jr. by Ricky Jason [www.keepvid.com].mp4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uses h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Texans dragged a black man to his death behind their pickup truck in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Blazak Mayhem Tour 38 - Jasper, Texas Dragging Death of James Byrd, Jr. [www.keepvid.com].mp4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he story-of matthew sheppard [www.keepvid.com]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uses h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y- bashing”  incident, which left a young man beaten and tied to a country fence post to die in a Wyoming 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Matthew Shepard The Story [www.keepvid.com].mp4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uses h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b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 11/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people carry such intense h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uses h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sts and even philosophers have struggled to explain the cause of hat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Aristotle observed the differences between hatred and an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aid that anger is usually felt towards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3:18:47Z</dcterms:created>
  <dc:creator>RCDSB</dc:creator>
  <dc:description/>
  <dc:language>en-US</dc:language>
  <cp:lastModifiedBy>Jason</cp:lastModifiedBy>
  <dcterms:modified xsi:type="dcterms:W3CDTF">2011-06-07T18:26:06Z</dcterms:modified>
  <cp:revision>11</cp:revision>
  <dc:subject/>
  <dc:title>9.2 Analyzing Hate Crimes</dc:title>
</cp:coreProperties>
</file>